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3633-E3BA-4838-8560-628261A68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FD51-49E3-42A1-9522-5FDB8849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1FC1-A2B9-4B64-9969-39C06569E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7ACA-0DD1-44FA-BCE1-9FDAC5532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9B92D-2964-4E09-96B3-EB21F13A7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7CB6-8AB9-4E70-B6B6-63BCE963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014C-D38D-4ACF-ACA7-AE21F19F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EBC1-B026-487A-BDB8-A70EC993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CB15-309D-4A62-A930-DDFC3A7B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8AF9-C697-446B-8D40-C4AD13C4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5A7B8-B705-40CD-A488-B23FB558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0511-5203-4110-9B30-DF90BFF1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B317-6770-41AD-B949-F358FD79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D9DB-BB9C-4E64-A19E-5FF73E53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31A8-0CA3-4461-BD63-9AFB773D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B93F-0C4A-4575-8FAD-68DAD6908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3EDE-71C2-46F9-ABD4-E956B15DD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52E8-3490-4F78-916E-BB00D64F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63D9-A02C-4629-BD53-3C5C4E17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2D8A-5224-404F-A6FB-EB86FCDB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635E-3E3A-4E97-A7A0-E0FD25E6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C774-7C00-4D7F-9739-E73442ED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80FC-71C2-4D58-BB78-5B3BB1CE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341D-FBDC-4EC6-B690-84CB1F2D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99cc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2DE8-C43C-40A6-A3A7-C045B1CA50F6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99cc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1588-2991-4604-9151-E8B2F89395E2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Smlouvy s rodiči jako cesta ke komunikaci se školo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hDr. Jana Zapletalov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Smlouvy s rodiči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 pozadí spoluprá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sané x úst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anovují pravidla pro spoluprác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ísemná pravidla podtrhují vážnost sdělení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máhají k větší zodpovědnosti a omezují manipula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případech nedorozumění jsou odrazovým můstkem k další komunika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mezují spoluzodpovědnost rodičů a ško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anovují pravidla a sankce za nedodržení domluvených pravi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Co je třeba dodrže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fektivita smluvních ujednání je ovlivněn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zájemnou důvěr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rozumitelností nastavených pravi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mezením platnosti smlouvy v čase a možnosti jejich úprav (dlouhodobé, krátkodobé, krizové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sným specifikováním opatř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anovením zodpovědností plnění závazků, forem komunikace a možných sankc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nímání možností smlouvy v kontextu typu řešeného problé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Proč vlastně smlouvy s rodiči..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difikace pravidel vede k jejich větší srozumitelnosti a tím se otvírá prostor k jejich dodrž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Škola pracuje zejména s faktory spoluprác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stože si je vědoma opory v zákonných normách (školský zákon, zákon o rodině §31-zodpovědnost rodičů,§43 a §44 výchovná opatření, trestní zákon – ohrožení výchovy dětí.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eventivní charakter smluv i ve vztahu k dění ve ško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avidelné vyhodnocování poskytuje dobrou zpětnou vazbu oběma stran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cccc"/>
                </a:solidFill>
                <a:latin typeface="Times New Roman"/>
              </a:rPr>
              <a:t>Smlouvy s rodiči jako cesta ke komunikaci </a:t>
            </a:r>
            <a:endParaRPr b="0" lang="en-US" sz="40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valita smluvního vztahu vždy závisí na přístupu obou str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mlouva je živý dokument, který nemá být pouhým potvrzením formal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mlouvy svádí k porušování x současně dávají prostor k nastavení spoluprá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zcela zřejmé, že vždy budou tací, kteří pravidla nebudou dodržovat, ale to nic nemění na potřebě o věcech komunikovat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kuji za pozorno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640" y="1628280"/>
            <a:ext cx="8040960" cy="440388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dina a škola - instituce, které směřují k transmisi kultury, k rozvoji jednotlivce na pozadí vztahové sítě prostřednictvím vzdělávání a výchov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růstá váha školního kapitálu, dětství se „prodlužuje“ až do dospělost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Škola není pouhým rámcem pro rozvíjení se, představuje určité nároky, zkoušky i konflikty, které vstupují do mezigeneračních vztahů a formují identitu žák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Škola dává možnost opustit svoje rodiče a současně v nich pokračov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0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Rodina a škola - milníky přípravy na život 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Vztah rodiny a školy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Škola a rodina mají přitom odlišná poslání, která jsou na sobě vzájemně závislá a proto je jejich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vztah často vyhrocen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dič postupuje jako spotřebitel a hledá školu, která mu pomůže naplnit očekávání vkládaná do jeho dě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asto postupuje v logice vlastních zkušeností a je limitován svými možnostm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cccc"/>
                </a:solidFill>
                <a:latin typeface="Times New Roman"/>
              </a:rPr>
              <a:t>Rodina  versus škola</a:t>
            </a:r>
            <a:endParaRPr b="0" lang="en-US" sz="40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Rodin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skytuje emocionální zázemí, vztahy, vzory jednání i pracovních činností, způsoby náhledu na realitu i její posuzování a hodnocení, současně dává zkušenosti z prožitých konfliktů i radosti, setkání s  odměnou i tre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Škol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skytuje pravidla, vědomosti, dovednosti a vytváří vztahy, které pomáhají jednotlivci najít místo ve společnosti a také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Školní mikrosvět a jeho rizika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působy dosahování cílů školy jako institu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Étos vzdělá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tomnost osobních příběhů (učitel, ředitel, žá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ztah a vzta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amota a nesnadná komunik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rach a zastrašo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cccc"/>
                </a:solidFill>
                <a:latin typeface="Times New Roman"/>
              </a:rPr>
              <a:t>Školní psycholog a podpora komunikace </a:t>
            </a:r>
            <a:endParaRPr b="0" lang="en-US" sz="40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ytvoření vnitřního systému komunikace, který ovlivňuje kvalitu vztahové sítě ško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koordinátorem služeb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poskytovaných ŠPP s definováním odpovědnost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průvodcem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školní docházkou žáka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specialistou na vztah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vývoje a uč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spolupracovníkem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učitel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poradcem a konzultantem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pro rodič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ředstavu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jednotící prvek v intervenci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(koordinuje opatření školy, rodiny a dalších odborníků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metodologem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komplexních nástrojů poznávání dětí a ško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hlavním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„nástrojem“ prevence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ve školním prostřed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tím, kdo pomáhá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vytvářet rovné podmínk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pro vzdělávání žáků s potřebou podpůrných opatř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Škola nabízí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nzultace s psychologem/speciálním pedagogem (telefonická, emailová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rizové intervence, pomoc jednotlivcům i tříd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moc pedagogům i rodičů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naha podporovat spolupráci s rodiči a vytvářet netradiční formy komunikace (setkávání s rodiči o víkendech, karnevaly, plesy, drakiády, koncerty, burzy, výlety do zahraničí…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Škola občas také musí…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íhat“ na nespolupracující rodič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stupovat do rodin přes prostředníky (asistenti, OSPOD….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munikovat s hyperkritickými rodiči, zvládat agresivní rodiče (alkohol, drogy,vulgarita), pracovat s hyperprotektivními rodiči, zvládat komunikaci v době partnerských krizí a rozvodů, pomáhat matkám samoživitelkám a bezradným rodičům, pomáhat s existenciálními problémy…až po tzv. „průtokáč“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Hledání pomoci…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ytváříme různé typy dokumentů : „Co je psáno, to je dáno..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znikají smlouvy o nastavení podpůrných mechanismů při vzdělávání integrovaného žáka (IV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mlouvy o seznámení s vnitřními pravidly školy (školní řád, působení školního psychologa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pisy z jednání výchovných komisí, které vymezují pravidla další spolupráce mezi žákem-školou -rodino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mlouvy o zajištění omlouvání absencí žáků (co rodiče zajistí, na co budou dohlížet, jak se budou vzájemně informovat.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mlouvy na podporu změny v chování žáka, mají charak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rizového plánu (nepracující žák v hodině x práce po vyučování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mlouvy v oblasti nefungujících vztahů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2:55:56Z</dcterms:created>
  <dc:creator>bodovav</dc:creator>
  <dc:description/>
  <dc:language>en-US</dc:language>
  <cp:lastModifiedBy>ZapletalovaJ</cp:lastModifiedBy>
  <dcterms:modified xsi:type="dcterms:W3CDTF">2011-04-04T06:42:45Z</dcterms:modified>
  <cp:revision>34</cp:revision>
  <dc:subject/>
  <dc:title>Koncepce poradenských služeb  poskytovaných ve škole </dc:title>
</cp:coreProperties>
</file>